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D60-094E-4D42-9C28-810E4B5FC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2BCE-88F0-4264-9F1D-34EA8545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DC62-E29B-4C16-A6D5-161F78FD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9607-07C5-4444-A105-2FC5595A1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0997D-7897-4BBB-8494-2948FEB31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BFB1-F34F-450F-ABAF-8996943F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1FC0-42F1-4B5A-944D-3B604782E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C7DE-FB83-465A-8C50-0FEB145A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8A280-6B8A-4106-ADDF-C8C7AD53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F3FE1-EA47-42CA-907A-4A9CFE475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BF98-C5FF-471E-B352-C59E2B2D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78F-6BFD-4E9D-A8BC-3C7AE0C9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3E8E-9F23-4477-BA73-0EE6CAD5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2D79A-0734-4BA5-AA82-DC2BB323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7C6C-4919-4CD6-AD22-B0D09186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1195-D199-4BA8-89FB-11E1EBE4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FE1F-BE82-4B96-B5DE-25C9CF95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7DC9-5291-4F56-B920-D58FB543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F63-9D28-44C9-A7AE-7574FEA5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B7AB-3B5E-438E-87B6-5ED56A17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CA52-714D-4BD7-AEEA-0330D3C88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FDE7-48F8-4BB1-9E14-5BD3209C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1323-A6CE-42D3-941F-8131B631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877-F652-48EF-8281-ECA0048B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7C431-D8BE-4A17-8AB6-CD41DE529677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9816-C875-43DE-A49B-EA0EB55F3420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-2.25@90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971640" y="765000"/>
            <a:ext cx="748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</a:rPr>
              <a:t>One Case Report of Managing Ectasia after Laser Refractive Surgery with RGP Contact Lens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4360" y="3716280"/>
            <a:ext cx="7775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David Chaokai Chang M.D. M.P.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Taipei Nobel Eye Clin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imes New Roman"/>
              </a:rPr>
              <a:t>Taiw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eec94"/>
                </a:solidFill>
                <a:latin typeface="Times New Roman"/>
              </a:rPr>
              <a:t>Assoications and D.D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Down’s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Turner’s syndr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Marfan’s syndrom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Atopic dermatit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Retinitis pigment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Osteogenesis imperfec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2800" spc="-1" strike="noStrike">
                <a:solidFill>
                  <a:srgbClr val="ffffff"/>
                </a:solidFill>
                <a:latin typeface="Times New Roman"/>
              </a:rPr>
              <a:t>Rubbing the eyes s/p LASIK op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Pellucid marginal dege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keratoglob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atmen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Corrective spectac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Hard contact len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Thermokeratoplas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Intac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Penetrating Keratoplast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76360" y="2565360"/>
            <a:ext cx="57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Metho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50920" y="1197000"/>
            <a:ext cx="864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</a:rPr>
              <a:t>Retrospectively reviewed the chart of one patient who underwent RGP contact lens fitting for LASIK induced ectasia (OD only) with at least one year follow up.</a:t>
            </a:r>
            <a:r>
              <a:rPr b="0" lang="zh-TW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835280" y="270828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Resul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istory Revie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35 young mal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Conventional LASIK Check Up (2003/5/15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Corneal thickness OD 562 OS 5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KRT OD 44.5 OS 43.75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BCV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OD  1.2 -5.00 with cyl -2.50 @42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OS   1.2 -5.50 with cyl -0.50@173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020000" y="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3/5/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st LASIK Data Review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3/5/23   Conventional LASIK Proced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3/5/25   UCVA  OD 1.0  OS 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3/5/30   UCVA  OD 1.0  OS 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03/8/4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CVA  OD 0.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OS 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CVA  OD 1.0 -0.50 </a:t>
            </a:r>
            <a:r>
              <a:rPr b="0" lang="en-US" sz="2400" spc="-1" strike="noStrike" u="sng">
                <a:solidFill>
                  <a:srgbClr val="ffffcc"/>
                </a:solidFill>
                <a:uFillTx/>
                <a:latin typeface="Times New Roman"/>
                <a:hlinkClick r:id="rId1"/>
              </a:rPr>
              <a:t>-2.25@9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K 39.75     Thinnest C  4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3/8/4  to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2003/10/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CVA  OD 0.6 (-3.50 -2.50@105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 42.25     Thinnest C  34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-25020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3/10/12 (RGP fitting)           K 43.75    Thinnest C  34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2502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979640" y="2421000"/>
            <a:ext cx="52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Introduct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-41400" y="0"/>
            <a:ext cx="9185400" cy="6810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020000" y="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3/8/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48360" y="9079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3/8/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heck up before Treatmen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(1) Brownish orange ferron sign at the base of the cone (Fleischer’s rin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(2) Stromal thinning of the cone ar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(3) Fibrillary lines noticed at anterior stromal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(4) Vertical stress lines at posterior cornea ( Vog’s lines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5077080" cy="77500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77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020000" y="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3/10/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635280" y="1159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3/10/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GP Fittin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2003/10/19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RGP. Boston RX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Diameter 9.6 mm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Basic Curve 7.75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ower -4.00 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Four Check Points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Times New Roman"/>
              </a:rPr>
              <a:t>Relative good centr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Times New Roman"/>
              </a:rPr>
              <a:t>Adequate tear exchange under contact le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Times New Roman"/>
              </a:rPr>
              <a:t>Not too much compression on the protrution are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ff"/>
                </a:solidFill>
                <a:latin typeface="Times New Roman"/>
              </a:rPr>
              <a:t>Avoid bubble form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7020000" y="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3/10/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7020000" y="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3/11/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58920" y="1844640"/>
            <a:ext cx="68421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</a:rPr>
              <a:t>To report our experience with managing keratectasia following laser refractive surgery with RGP contact lens</a:t>
            </a:r>
            <a:r>
              <a:rPr b="0" lang="zh-TW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020000" y="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4/4/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020000" y="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4/9/1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Post RGP Fitting Data Review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3/10/12 fitting 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3/10/19  one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3/10/24  two week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3/11/5    one 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3/12/5    three month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4/4/9      seven months  UCVA 1.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4/9/26    0ne year ----two days lens of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020000" y="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4/9/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6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7020000" y="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4/9/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51280" y="1159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2004/9/2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403280" y="2492280"/>
            <a:ext cx="61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Discuss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Three elements determine lens choice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The clinical stage of the disord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Keratometry valu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Mild(&lt;45D) Moderate (45D to52D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Advanced (52D to 62D) Severe(&gt;62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Times New Roman"/>
              </a:rPr>
              <a:t>The shape of the keratoconu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80000" y="587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By Michela Cimber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riteria for CL Selectio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First, Geome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Second, Curva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Third, Diameter of the lens --small or larg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Gold standard - Spherical ,multicurved lenes with three-point touch   --Florence E. Malet </a:t>
            </a:r>
            <a:r>
              <a:rPr b="0" lang="zh-TW" sz="1000" spc="-1" strike="noStrike">
                <a:solidFill>
                  <a:srgbClr val="ffffff"/>
                </a:solidFill>
                <a:latin typeface="Times New Roman"/>
              </a:rPr>
              <a:t>MD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Alternative  option --Piggybacks contact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-Twin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zh-TW" sz="2800" spc="-1" strike="noStrike">
                <a:solidFill>
                  <a:srgbClr val="ffffff"/>
                </a:solidFill>
                <a:latin typeface="Times New Roman"/>
              </a:rPr>
              <a:t>-- Customized rigid contact len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eec94"/>
                </a:solidFill>
                <a:latin typeface="Times New Roman"/>
              </a:rPr>
              <a:t>Definition and Incidence</a:t>
            </a:r>
            <a:br>
              <a:rPr sz="4000"/>
            </a:br>
            <a:r>
              <a:rPr b="1" lang="zh-TW" sz="4000" spc="-1" strike="noStrike">
                <a:solidFill>
                  <a:srgbClr val="feec94"/>
                </a:solidFill>
                <a:latin typeface="Times New Roman"/>
              </a:rPr>
              <a:t>keratectasia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Distorted symmetrical curvature of the corne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Abnormal thinning of its center or inferior paracentral are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Kennedy et al (1986) found a prevalence rate of 55 per 100000 in the population of Olmsted county , Minn. USA from 1935 to198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979640" y="2852640"/>
            <a:ext cx="511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Conclusio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84360" y="1268280"/>
            <a:ext cx="813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ffff00"/>
                </a:solidFill>
                <a:latin typeface="Times New Roman"/>
              </a:rPr>
              <a:t>Our preliminary experience indicates that RGP contact lens fitting may be an effective and safe procedure for Keratectasia following laser refractive surgery . Long term outcomes are awaited 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24000" y="2852640"/>
            <a:ext cx="89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ff00"/>
                </a:solidFill>
                <a:latin typeface="Times New Roman"/>
              </a:rPr>
              <a:t>Thank you for your attention </a:t>
            </a:r>
            <a:r>
              <a:rPr b="1" lang="zh-TW" sz="4800" spc="-1" strike="noStrike">
                <a:solidFill>
                  <a:srgbClr val="ffff00"/>
                </a:solidFill>
                <a:latin typeface="Times New Roman"/>
              </a:rPr>
              <a:t>！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Symptoms and Sign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Progressive decreased 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Munson’s 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Fleisher ring (epithelial iron deposit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Anterior stromal scarr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Vog’s striae ( Posterior corneal vertical ten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Irregular central red refle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Acute hydrops ( Descenmet’s membrane rupyur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54560" y="6308640"/>
            <a:ext cx="47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imes New Roman"/>
              </a:rPr>
              <a:t>March 27,2005 APAO , K.L. Malays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003640" y="0"/>
            <a:ext cx="5077080" cy="7750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03640" cy="77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6T13:41:55Z</dcterms:created>
  <dc:creator>NEC Computers International</dc:creator>
  <dc:description/>
  <dc:language>en-US</dc:language>
  <cp:lastModifiedBy>erica</cp:lastModifiedBy>
  <dcterms:modified xsi:type="dcterms:W3CDTF">2005-03-04T10:21:34Z</dcterms:modified>
  <cp:revision>21</cp:revision>
  <dc:subject/>
  <dc:title>投影片 1</dc:title>
</cp:coreProperties>
</file>