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3D7-04BB-482C-A158-E4CFDD1C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58E-4394-45F7-9A1A-490DA84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E68-5A4D-4FEE-B858-2E17DA16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6B8-EA09-4077-8A78-E0BFC574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870C-18DA-4C63-92B7-AC2A86CE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7254-F85B-4277-9013-2357EC3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CEBE-0562-441F-AC3B-B9A4A46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C8B-75C1-43DC-A54C-DD321818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1E88-7B17-41B2-9064-10BDC81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2010-0D91-4CC6-BE71-D7BFF8F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9E35-310C-4159-9B61-191FEDF8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F5E-6297-4837-8B85-D74C17FB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1D6-4B59-4BAF-B996-49E1FA3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704B-F17E-46A3-857B-B3FD5094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89BF-FAFA-4BE1-8EFD-4042272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CEE1-7C46-4503-964C-C16D2304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BA0-9191-4620-8A58-3FC8883F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6A7-BFD8-49EC-A7A4-32F820B0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DC7-E280-4215-95DD-E7ADB407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AA0-3F89-49D6-830D-1276EB3E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C98-76A2-4730-8D6B-418791D5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A09-6885-4D7A-B6B1-1C8A8D4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061-032B-4EF4-A9BC-95B4CDA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7AE-0A43-446F-8CCB-7E99B993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B7D4-4AAA-4155-A0F5-60F60579168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9C4-5F3A-4DCE-9629-7D317D4FCF1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11280" y="1773360"/>
            <a:ext cx="48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90000"/>
                </a:solidFill>
                <a:latin typeface="標楷體"/>
                <a:ea typeface="標楷體"/>
              </a:rPr>
              <a:t>兒童視力保健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573000"/>
            <a:ext cx="4600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1607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感覺系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包括視力、視野、辦色力、對比敏感度及立體感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運動系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包括兩眼的快速運動、追隨運動及展視、聚視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是否有斜視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00"/>
                </a:solidFill>
                <a:latin typeface="標楷體"/>
                <a:ea typeface="標楷體"/>
              </a:rPr>
              <a:t>眼球及視力的發育是屬於中樞神經系統的一部份</a:t>
            </a:r>
            <a:br>
              <a:rPr sz="2400"/>
            </a:br>
            <a:r>
              <a:rPr b="1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視覺功能大概可分為</a:t>
            </a:r>
            <a:br>
              <a:rPr sz="3200"/>
            </a:br>
            <a:r>
              <a:rPr b="1" lang="zh-TW" sz="3200" spc="-1" strike="noStrike" u="sng">
                <a:solidFill>
                  <a:srgbClr val="990000"/>
                </a:solidFill>
                <a:uFillTx/>
                <a:latin typeface="標楷體"/>
                <a:ea typeface="標楷體"/>
              </a:rPr>
              <a:t>感覺系統</a:t>
            </a:r>
            <a:r>
              <a:rPr b="1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和</a:t>
            </a:r>
            <a:r>
              <a:rPr b="1" lang="zh-TW" sz="3200" spc="-1" strike="noStrike" u="sng">
                <a:solidFill>
                  <a:srgbClr val="990000"/>
                </a:solidFill>
                <a:uFillTx/>
                <a:latin typeface="標楷體"/>
                <a:ea typeface="標楷體"/>
              </a:rPr>
              <a:t>運動系統</a:t>
            </a:r>
            <a:r>
              <a:rPr b="1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兩部分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72010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視力表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(E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字或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C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字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立體圖檢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9280" y="6919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視力檢查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2663640" cy="1790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2721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天花板的光源或立燈要足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不要凝視電腦螢幕太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用可調整高度的椅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 ……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學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看黑板時瞇眼、皺眉及側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教室有足夠的光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 ……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539280" y="6919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如何做好兒童視力保健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1607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72010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營養攝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生活作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定期檢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點藥水控制度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硬式隱形眼鏡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適合國中以上起配戴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539280" y="6919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如何預防近視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2016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754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學校負責視力保健的督導和教學，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家庭配合督導學生的作息、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閱讀及看電視的正確方法，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衛生機構負責保健諮詢及診治，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社教機構藉傳播媒體宣導視力保健；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做好視力保健，人人都有好視力。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4508640"/>
            <a:ext cx="2448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8:52:24Z</dcterms:created>
  <dc:creator>SuperXP</dc:creator>
  <dc:description/>
  <dc:language>en-US</dc:language>
  <cp:lastModifiedBy>SuperXP</cp:lastModifiedBy>
  <dcterms:modified xsi:type="dcterms:W3CDTF">2007-07-05T09:45:13Z</dcterms:modified>
  <cp:revision>9</cp:revision>
  <dc:subject/>
  <dc:title>兒童視力保健</dc:title>
</cp:coreProperties>
</file>