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A4E2-2D40-4F6B-B02A-BFF5B31F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1B7-2274-4A24-B444-B93D7788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780B-78C6-4ABA-A2CC-85015B1D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4F6-E30E-468A-945E-D00344B7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B6AC-757B-48ED-9443-F53F0ECE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A624-A105-4F82-88FE-2617E337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6B46-6A37-4AB3-A2ED-209B2C4D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C831-5F90-4519-B4F7-24619AD7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61AE-1553-4B74-967E-BAEBB822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4D13-A8D3-44B5-BFC2-C9A7BE4B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4D0D-2CC3-42D5-9E6C-F7BDC125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BD6-C714-4617-B325-C86FB0F7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C532-45CF-4741-A25B-1E4EFD3C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6EA4-657C-4958-910C-8FEC5946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9260-DB12-4AA7-BBB4-A6F6A462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8512-0F76-4F61-B8C6-C0AF3AD0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1FD3-CCA1-47B1-AF5D-433FD34A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BE6-CA21-4AA7-9B6F-38A32AFF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701-E91A-428F-9041-F357E68A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8A32-537F-4F7C-BF18-65CCB60C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A9F-E97D-4786-B771-922C4DC3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DBC-0EBF-4262-B9FB-F1EECE68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60A-6CD2-40CA-8DC6-E926C0A8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706-16FC-4C45-989F-021FBFC2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A810-651B-45AD-B5C9-C097A7E3022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776A-C2C9-4F06-912C-C79A45C2335E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61930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430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99"/>
                </a:solidFill>
                <a:latin typeface="標楷體"/>
                <a:ea typeface="標楷體"/>
              </a:rPr>
              <a:t>護眼須知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諾貝爾醫療集團 執行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諾貝爾眼科診所 院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張朝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0099"/>
                </a:solidFill>
                <a:latin typeface="Arial"/>
                <a:ea typeface="標楷體"/>
              </a:rPr>
              <a:t>吃出眼睛的健康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2104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各種抗氧化的維生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維生素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維生素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維生素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魚肝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葉黃素…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5157720"/>
            <a:ext cx="1523880" cy="100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908000" y="5445000"/>
            <a:ext cx="1428840" cy="1162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859280" y="40766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164360" y="5445000"/>
            <a:ext cx="1285920" cy="962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364000" y="2492280"/>
            <a:ext cx="1190880" cy="885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7164360" y="3213000"/>
            <a:ext cx="1285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0099"/>
                </a:solidFill>
                <a:latin typeface="Arial"/>
                <a:ea typeface="標楷體"/>
              </a:rPr>
              <a:t>眼鏡的選擇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眼鏡可說是眼睛的衣裳，最主要的目的是矯正視力，其次是保護眼睛及美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阻絕紫外線傷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質輕的安全鏡片為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透光率較佳的鏡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太陽眼鏡注意不要選擇藍色的鏡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0099"/>
                </a:solidFill>
                <a:latin typeface="Arial"/>
                <a:ea typeface="標楷體"/>
              </a:rPr>
              <a:t>如何讓眼睛獲得充分的休息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良好的照明，正確的閱讀姿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光源由左後方投射至桌前，不要閃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維持適當的距離（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30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至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35 cm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）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適度的休息，充分的睡眠，是護眼的不二法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每隔三十至四十分鐘休息五到十分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平時要抽空到公園或郊外踏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讓眼睛凝視遠方，是最好的護眼運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000099"/>
                </a:solidFill>
                <a:latin typeface="Arial"/>
                <a:ea typeface="標楷體"/>
              </a:rPr>
              <a:t>運動時眼睛的保護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運動球速非常快，如棒球、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橄欖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…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最好戴護目鏡或護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運動時所配帶的眼鏡，鏡框要避免尖銳的稜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鏡片則以安全鏡片為首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平常注意保養，一旦眼睛有任何不適，要儘快求助於專業眼科醫師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診治，把握時機，爭取療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眼睛是靈魂之窗，在日常生活中時時把握護眼的訣竅，不僅眼睛明亮，更可活絡身體其他機能，帶來身心的健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8:03:38Z</dcterms:created>
  <dc:creator>SuperXP</dc:creator>
  <dc:description/>
  <dc:language>en-US</dc:language>
  <cp:lastModifiedBy>SuperXP</cp:lastModifiedBy>
  <dcterms:modified xsi:type="dcterms:W3CDTF">2007-07-05T08:46:42Z</dcterms:modified>
  <cp:revision>7</cp:revision>
  <dc:subject/>
  <dc:title>護眼須知</dc:title>
</cp:coreProperties>
</file>