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2D6-8534-4FB4-984D-51881DE1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961-F66D-4D07-8495-00DCB4E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F79-A93F-4491-8DD6-88377297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B6-CECB-432C-BD2C-8A18CA4E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B2B-56BD-4DD7-A01F-091B2381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968E-6683-400F-8BBB-C6DFAD99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607-351C-4C4A-9196-FFD3443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6E80-3BAA-49CA-A586-2A8D30E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422C-705B-41F0-81B1-D82FE14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34D1-255A-46CC-B0DF-C50CD41E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096-019C-4C61-A26B-96CA7D4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772-9B3D-4EC5-B508-9EA565E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B68-0C67-4920-9797-8989EAF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252-A47A-4D18-8515-FFE6691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823A-B782-417C-85C4-1424EAA0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C64A-59FC-4797-A9A0-D88A2490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5168-5395-4712-9203-6988B000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1EC-0AAC-443C-9976-A2AEE39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468-BFE1-4A71-BE94-135F3858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484-857D-4021-9F07-5AF72156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65C-D37A-4288-887D-C7E2AB8C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B6F-B1A6-4FAD-98E3-E633E89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1DA-77FD-4641-A1AD-C46D18B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0B4-AE7F-40BD-B0E1-DCBA7170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CDC-3CEE-4982-86A4-6FF20B435A4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77D-3B0B-4904-B2B6-0B5BBBC9703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177300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0066"/>
                </a:solidFill>
                <a:latin typeface="標楷體"/>
                <a:ea typeface="標楷體"/>
              </a:rPr>
              <a:t>電腦視覺症候群</a:t>
            </a:r>
            <a:br>
              <a:rPr sz="5400"/>
            </a:br>
            <a:r>
              <a:rPr b="1" lang="zh-TW" sz="5400" spc="-1" strike="noStrike">
                <a:solidFill>
                  <a:srgbClr val="330066"/>
                </a:solidFill>
                <a:latin typeface="標楷體"/>
                <a:ea typeface="標楷體"/>
              </a:rPr>
              <a:t>及乾眼症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460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電腦視覺症候群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電腦視覺症候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Computer Vision Syndrome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簡稱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VS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源自於眼睛長期盯著電腦螢光幕長達二小時以上，由於專心電腦螢幕，造成眨眼次數降低，眼睛表面水分迅速蒸發，再加上辦公室空調溫度及溼度皆低，且空氣中懸浮粒不易去除，久之會出現如</a:t>
            </a:r>
            <a:r>
              <a:rPr b="0" lang="zh-TW" sz="2800" spc="-1" strike="noStrike">
                <a:solidFill>
                  <a:srgbClr val="330066"/>
                </a:solidFill>
                <a:latin typeface="標楷體"/>
                <a:ea typeface="標楷體"/>
              </a:rPr>
              <a:t>慢性結膜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</a:t>
            </a:r>
            <a:r>
              <a:rPr b="0" lang="zh-TW" sz="2800" spc="-1" strike="noStrike">
                <a:solidFill>
                  <a:srgbClr val="330066"/>
                </a:solidFill>
                <a:latin typeface="標楷體"/>
                <a:ea typeface="標楷體"/>
              </a:rPr>
              <a:t>乾眼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症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根據國外之統計資料顯示，平均每天使用電腦兩個小時以上，有一半的人會出現電腦視覺症候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電腦視覺症候群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電腦螢幕是由無數個小光點所組成，非連續性的畫面需要定期的更新，眼睛長時間在閃爍頻繁的螢幕前，造成使用者聚焦不易，眼睛易疲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電腦族常會調高螢幕的亮度，或在室內明亮之辦公室工作，但卻造成使用螢幕時會有炫光和反光的問題，使得影像降低，色差變小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症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眼睛疲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頭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雙影像視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疲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紅腫乾澀的眼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假性近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感覺螢幕影像模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眼睛腫痛、發炎、過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對顏色感覺的變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乾眼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淚水的分泌隨著年齡的增長而減少，所以乾眼症的病患以年長者居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頻繁使用電腦，專心注視螢幕導致眨眼次數降低，眼球表面蒸發速率增快，年輕人也得乾眼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圖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201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症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眼睛乾澀，易疲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異物感、灼熱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眼皮緊繃、沉重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畏光、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分泌物黏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對外界刺激（光、風、煙）敏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短暫視力模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治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水分缺乏造成的乾眼症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刺激淚液的分泌：按摩、熱敷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補充人工淚液、保存淚水、減少淚水排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油脂層造成的乾眼症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改變生活作息，不熬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避免吃刺激性的食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眼睛熱敷，每天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3~4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次，每次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5~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１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0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分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注意眼瞼緣的清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有眼瞼炎，需口服抗生素治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治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黏液層造成的乾眼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黏液素分液過多，給予溶解黏液素的藥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補充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番茄、紅蘿蔔、木瓜、魚、牛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結膜有過敏、發炎情形要積極治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結膜因灼傷或砂眼結疤，導致黏液素嚴重不足，可以用自體結膜或口腔黏膜移植手術治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改善環境、改善用眼習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8:50:22Z</dcterms:created>
  <dc:creator>SuperXP</dc:creator>
  <dc:description/>
  <dc:language>en-US</dc:language>
  <cp:lastModifiedBy>SuperXP</cp:lastModifiedBy>
  <dcterms:modified xsi:type="dcterms:W3CDTF">2007-07-05T07:00:41Z</dcterms:modified>
  <cp:revision>23</cp:revision>
  <dc:subject/>
  <dc:title>電腦視覺症候群 及乾眼症</dc:title>
</cp:coreProperties>
</file>