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6E56-1E33-4858-98F5-DF7FA38F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6B31-D661-4680-B232-75132E32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2C70-A44C-47F9-92C5-C8360B4E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94A-6CA4-44D2-BF4C-7D8F0B8A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2752-A743-4064-AC2C-58DD885D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B494-24B2-4714-9F51-88AEBEF1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1950-9394-455A-A11A-36F97F48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71AF-2A6A-492C-934F-22BBA060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FB92-33C7-4EB3-A35A-EF66E2FC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7A4A-BDDD-4F6E-AC55-DDFE6E76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DAE9-7C4A-4811-88F0-27B063B2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7815-5751-425B-9802-AD0EE5D2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3206-0BBB-47CC-8407-788087F1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23BE-0CF7-4D32-95B2-DE0EE009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9332-409D-486F-ABF3-B6F45174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3A0C-C558-4850-910E-E8CDB5BF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0B1C-0409-4BAF-9971-FD7C4BCB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04D5-6706-44C6-8986-D542116B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0978-75BC-4E99-9B3B-2B9F7F5A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23DB-EA2D-4F64-8241-621F0D2E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350B-688E-451B-BDC5-89868239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DC8A-EE0F-45E1-9CD8-E7935194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67F5-073A-4CA1-8194-E533E7F1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7BC3-DABB-48FF-B37E-B8025129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46B5-5F93-412E-8C4A-DA6DAA0B8978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7B94-7439-42C0-A8DF-DBDEA294A826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6560" y="1773360"/>
            <a:ext cx="640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3300"/>
                </a:solidFill>
                <a:latin typeface="標楷體"/>
                <a:ea typeface="標楷體"/>
              </a:rPr>
              <a:t>結膜炎的預防與保健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573000"/>
            <a:ext cx="4600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3300"/>
                </a:solidFill>
                <a:latin typeface="標楷體"/>
                <a:ea typeface="標楷體"/>
              </a:rPr>
              <a:t>諾貝爾醫療集團 執行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3300"/>
                </a:solidFill>
                <a:latin typeface="標楷體"/>
                <a:ea typeface="標楷體"/>
              </a:rPr>
              <a:t>諾貝爾眼科診所 院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3300"/>
                </a:solidFill>
                <a:latin typeface="標楷體"/>
                <a:ea typeface="標楷體"/>
              </a:rPr>
              <a:t>張朝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145584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86868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3300"/>
                </a:solidFill>
                <a:latin typeface="標楷體"/>
                <a:ea typeface="標楷體"/>
              </a:rPr>
              <a:t>眼睛紅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3300"/>
                </a:solidFill>
                <a:latin typeface="標楷體"/>
                <a:ea typeface="標楷體"/>
              </a:rPr>
              <a:t>流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3300"/>
                </a:solidFill>
                <a:latin typeface="標楷體"/>
                <a:ea typeface="標楷體"/>
              </a:rPr>
              <a:t>疼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3300"/>
                </a:solidFill>
                <a:latin typeface="標楷體"/>
                <a:ea typeface="標楷體"/>
              </a:rPr>
              <a:t>畏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3300"/>
                </a:solidFill>
                <a:latin typeface="標楷體"/>
                <a:ea typeface="標楷體"/>
              </a:rPr>
              <a:t>眼脂增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6600"/>
                </a:solidFill>
                <a:latin typeface="標楷體"/>
                <a:ea typeface="標楷體"/>
              </a:rPr>
              <a:t>每當游泳季節的來臨，許多青少年易從公共設施或大眾游泳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6600"/>
                </a:solidFill>
                <a:latin typeface="標楷體"/>
                <a:ea typeface="標楷體"/>
              </a:rPr>
              <a:t>中感染到結膜炎，或接觸到受污染的公共物品如：毛巾、臉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6600"/>
                </a:solidFill>
                <a:latin typeface="標楷體"/>
                <a:ea typeface="標楷體"/>
              </a:rPr>
              <a:t>…</a:t>
            </a:r>
            <a:r>
              <a:rPr b="0" lang="zh-TW" sz="2400" spc="-1" strike="noStrike">
                <a:solidFill>
                  <a:srgbClr val="996600"/>
                </a:solidFill>
                <a:latin typeface="標楷體"/>
                <a:ea typeface="標楷體"/>
              </a:rPr>
              <a:t>等，皆會在學校、托兒所及家中造成相互傳染，而造成所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6600"/>
                </a:solidFill>
                <a:latin typeface="標楷體"/>
                <a:ea typeface="標楷體"/>
              </a:rPr>
              <a:t>的「紅眼症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716360" y="1413000"/>
            <a:ext cx="3165480" cy="33130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003300"/>
                </a:solidFill>
                <a:latin typeface="標楷體"/>
                <a:ea typeface="標楷體"/>
              </a:rPr>
              <a:t>「結膜炎」主要症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63300"/>
                </a:solidFill>
                <a:latin typeface="標楷體"/>
                <a:ea typeface="標楷體"/>
              </a:rPr>
              <a:t>急性結膜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63300"/>
                </a:solidFill>
                <a:latin typeface="標楷體"/>
                <a:ea typeface="標楷體"/>
              </a:rPr>
              <a:t>慢性結膜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63300"/>
                </a:solidFill>
                <a:latin typeface="標楷體"/>
                <a:ea typeface="標楷體"/>
              </a:rPr>
              <a:t>流行性結膜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63300"/>
                </a:solidFill>
                <a:latin typeface="標楷體"/>
                <a:ea typeface="標楷體"/>
              </a:rPr>
              <a:t>過敏性結膜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003300"/>
                </a:solidFill>
                <a:latin typeface="標楷體"/>
                <a:ea typeface="標楷體"/>
              </a:rPr>
              <a:t>「結膜炎」可分為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508720" y="4941720"/>
            <a:ext cx="208908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4032360" cy="2333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851280" y="3879720"/>
            <a:ext cx="4249800" cy="2460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292720" y="1773360"/>
            <a:ext cx="1800360" cy="1366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403280" y="4149720"/>
            <a:ext cx="154620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1719360"/>
            <a:ext cx="9144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63300"/>
                </a:solidFill>
                <a:latin typeface="標楷體"/>
                <a:ea typeface="標楷體"/>
              </a:rPr>
              <a:t>避免用手揉眼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63300"/>
                </a:solidFill>
                <a:latin typeface="標楷體"/>
                <a:ea typeface="標楷體"/>
              </a:rPr>
              <a:t>維持良好衛生習慣，隨時注意清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63300"/>
                </a:solidFill>
                <a:latin typeface="標楷體"/>
                <a:ea typeface="標楷體"/>
              </a:rPr>
              <a:t>避免接觸患者所使用過的物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63300"/>
                </a:solidFill>
                <a:latin typeface="標楷體"/>
                <a:ea typeface="標楷體"/>
              </a:rPr>
              <a:t>不要借用別人眼藥水等私人物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63300"/>
                </a:solidFill>
                <a:latin typeface="標楷體"/>
                <a:ea typeface="標楷體"/>
              </a:rPr>
              <a:t>不在結膜炎流行期間做不必要的眼科檢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63300"/>
                </a:solidFill>
                <a:latin typeface="標楷體"/>
                <a:ea typeface="標楷體"/>
              </a:rPr>
              <a:t>若是經由外界環境所造成，則應儘量避免接觸到刺激源，如減少外出風吹等刺激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003300"/>
                </a:solidFill>
                <a:latin typeface="標楷體"/>
                <a:ea typeface="標楷體"/>
              </a:rPr>
              <a:t>個人預防和保鍵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7:14:28Z</dcterms:created>
  <dc:creator>SuperXP</dc:creator>
  <dc:description/>
  <dc:language>en-US</dc:language>
  <cp:lastModifiedBy>SuperXP</cp:lastModifiedBy>
  <dcterms:modified xsi:type="dcterms:W3CDTF">2007-07-05T07:47:47Z</dcterms:modified>
  <cp:revision>9</cp:revision>
  <dc:subject/>
  <dc:title>結膜炎的預防與保健</dc:title>
</cp:coreProperties>
</file>