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FB1-9CDF-42F8-B66B-4F6683A9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03A-0B85-4AB6-B395-15C4F18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A56-A52C-4606-B670-F468D1D1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137-ED88-4542-BCA0-E5DF0A42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747-AC43-4CBA-BF26-1B262BCE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9A2-D0D9-4CA4-BD0F-096FF63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77EC-91CE-4C8A-8292-B99995B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6FF7-023C-4156-AB4C-B3F56B5B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ED2-16F0-4815-A9F4-7AC67E81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839D-D030-484D-BF94-314D9CB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E35A-EB3B-4D62-A6D0-C863EA0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09E-411A-4A2B-B39B-E6F3DA2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8150-23F4-4DAF-836E-32B3265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DEFF-9E5B-4291-A208-1C19B860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307-2BB4-41C5-A184-CD844082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9E3-ABE3-4156-87AF-1A50FB50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C0C8-ADB9-44C7-AFFE-F7F1D350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18-8820-4163-A3DD-ED34A3D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097-A862-4C42-BC8F-24B303C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EDD-4AD1-4D97-8859-E00B104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FFE-B583-4955-A002-88090CA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C27-722A-4023-BE57-5AA1716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389-7183-496C-BE50-5BC118C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1CE-12E7-44D8-AD58-FD39990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6547-FC5D-4D25-9E4C-B8330E70D7F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BC19-C205-43D9-952A-2948D34FEE4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61930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雷射近視手術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前、中、後保養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手術後後遺症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欠缺矯正及回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過度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規則散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角膜混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角膜發炎或潰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你要明白</a:t>
            </a: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--</a:t>
            </a: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雷射手術前中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手術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充份了解手術過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先接受過完整的評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需有精準的驗光確定度數、角膜厚度、瞳孔大小、角膜地圖、角膜弧度、淚液分泌、散瞳後的數度等數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雷射手術術前十項檢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3754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散瞳前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弧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壓測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地圖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鏡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佳矯正視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角膜厚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淚液測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散瞳後度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底鏡檢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10800000">
            <a:off x="4282920" y="1552320"/>
            <a:ext cx="338616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檢查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，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查完成後，與醫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討論矯正度數，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前檢查當天因需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瞳，故勿騎機車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開車，盡量搭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眾交通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傳統近視手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49055"/>
          <a:stretch/>
        </p:blipFill>
        <p:spPr>
          <a:xfrm>
            <a:off x="539640" y="1773360"/>
            <a:ext cx="808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飛秒激光雷射手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49055" r="0" b="0"/>
          <a:stretch/>
        </p:blipFill>
        <p:spPr>
          <a:xfrm>
            <a:off x="539640" y="1844640"/>
            <a:ext cx="8136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手術後注意事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手術後當天，可能有稍微流淚、異物感、畏光、視力仍呈現模糊狀態等症狀，無須過度緊張，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-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時後會逐漸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睡覺休息後將會明顯改善，隔天症狀會消失，看遠祼視力在一天後會顯著進步，度數高的人可能會稍慢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術後外出時，戴上護目鏡或平光眼鏡，避免風吹及陽光曝曬，絕不可自行駕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手術後注意事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術後用藥：一般會給眼藥水或口服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類固醇眼藥水：幫助傷口癒合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抗生素眼藥水：預防傷口發炎及感染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人工淚液：改善眼睛乾澀的狀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回診時間：定期回診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通常在術後隔天、一週、二週後一次覆診、滿一個月後可隔二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三週再回診一次直到三個月後視力穩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  <a:ea typeface="標楷體"/>
              </a:rPr>
              <a:t>術後保養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前三天於夜間睡眠時貼帶眼罩，避免睡眠時壓迫或揉到角膜並需注意個人衛生，盡量避免用雙手觸碰眼睛防止細菌感染或角膜移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長期注意事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雷射視力矯正，不會增加視網膜剝離，但近視度數高的人是視網膜剝離的高危險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眼前飛蚊黑點大量增加，視野產生暗影飄動，或視力突然下降，時好時壞，視物變形時，即有視網膜剝離之可能，須立即治療不可拖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標楷體"/>
                <a:ea typeface="標楷體"/>
              </a:rPr>
              <a:t>手術後外出不適應症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乾眼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眩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畏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視力浮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眼壓增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5:42:04Z</dcterms:created>
  <dc:creator>SuperXP</dc:creator>
  <dc:description/>
  <dc:language>en-US</dc:language>
  <cp:lastModifiedBy>SuperXP</cp:lastModifiedBy>
  <dcterms:modified xsi:type="dcterms:W3CDTF">2007-07-05T06:17:06Z</dcterms:modified>
  <cp:revision>20</cp:revision>
  <dc:subject/>
  <dc:title>  雷射近視手術 前、中、後保養</dc:title>
</cp:coreProperties>
</file>